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4.wmf" ContentType="image/x-wmf"/>
  <Override PartName="/ppt/media/camera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31B-1C8E-41F7-B9E5-E4422064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0C5-190D-4ED6-BB83-805DD13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2E7-D1C2-42C0-AB46-6F26EA13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4DC-4926-4D81-B3BF-689DB5E4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D48E-C898-4F49-AF87-90F0A8FF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E45D-E83F-4091-B765-98A7905F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8524-6C04-40AC-A87F-92D5DA36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3CE3-DD17-4C77-A411-513EB294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09E5-D775-425D-A412-694F9511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2FAA-0545-49F9-959C-41F910D9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B761-3B14-424B-8122-D2DCB74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134-9CDB-46A1-A51E-FC55B840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AD15-213F-437B-95FC-3F067BAC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88B0-054A-4338-B636-5FB841A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A9AD-0EE8-4F4D-8A90-E96995EB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62D2-E31F-414A-9B54-AAF6213D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9D11-200E-4075-89A6-0FCFA3AB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D58-55AD-44DC-B40C-FED41DA1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0D2-816F-4001-ACDB-0BD78580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98E-223D-495F-A668-177EC19F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A46-EDC7-4431-9CD8-CB0D414F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5BF-5CD4-4150-AE9F-090BE619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E4D-AFB2-4867-83C0-8433AA43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8B3-8DA8-4A2C-8E18-A0BD429C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9712-CBD7-40E3-A4AF-B4A23F061286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5C2-40FA-4900-966A-1350781B495D}" type="slidenum">
              <a:rPr b="0" lang="en-GB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33"/>
                </a:solidFill>
                <a:latin typeface="Comic Sans MS"/>
              </a:rPr>
              <a:t>How to write a story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764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96633"/>
                </a:solidFill>
                <a:latin typeface="Times New Roman"/>
              </a:rPr>
              <a:t>First you have to…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 who the characters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is going to be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ort of characters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08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3814920"/>
            <a:ext cx="2556000" cy="249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95480" y="4876920"/>
            <a:ext cx="11336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68544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Next consider …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nd when your story is going to take pl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called the se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33720" y="4343400"/>
            <a:ext cx="137448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24280" y="4038480"/>
            <a:ext cx="2212920" cy="122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095880" y="1981080"/>
            <a:ext cx="2590920" cy="184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38480" y="5638680"/>
            <a:ext cx="1447920" cy="459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4419720"/>
            <a:ext cx="10670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Pa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5715000"/>
            <a:ext cx="175284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Time for the Problem…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going to happen in your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ain ev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story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213372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72200" y="4495680"/>
            <a:ext cx="1981080" cy="194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38280" y="2286000"/>
            <a:ext cx="24386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Include Important Even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mmary of what happens in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vents in th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known as the p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90920" y="4572000"/>
            <a:ext cx="1831680" cy="1841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77120" y="2133720"/>
            <a:ext cx="2247840" cy="1753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410080" y="3962520"/>
            <a:ext cx="1567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Finally ….the Solution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all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is 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en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ppy? S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2406600" cy="193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657600" y="4267080"/>
            <a:ext cx="194796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905120" cy="1789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 flipH="1" rot="10800000">
            <a:off x="2286000" y="4191120"/>
            <a:ext cx="108576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Times New Roman"/>
              </a:rPr>
              <a:t>Think about …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2388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57913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3366"/>
                </a:solidFill>
                <a:latin typeface="Poor Richard"/>
              </a:rPr>
              <a:t>These will help you to know 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tchford</cp:lastModifiedBy>
  <dcterms:modified xsi:type="dcterms:W3CDTF">2005-06-01T09:39:44Z</dcterms:modified>
  <cp:revision>2</cp:revision>
  <dc:subject/>
  <dc:title>How to write a story</dc:title>
</cp:coreProperties>
</file>